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1C3D-A227-4610-93B0-3C87C076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structions for making your g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Decide which column is to be correct. –Place your cursor on the correct letter and click.  A box appears around the letter.  Right click, click 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hyperl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dit hyperlin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yperlink t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use down arrow.  Click on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righ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k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same instructions for the 2 wrong columns except click 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4 sorry.   ----  All you need to do to change out the question and the choices is to click on it and a text box appears,  erase and type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2C2-0350-492B-867E-FEA19A79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7F2-75A1-40D6-8BBF-049AEDE7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61B-C049-4E3E-8B79-CF7C63A1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13DF-3685-4526-8AC0-21AEB1F4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C9E-D585-4934-B8BB-8CD162A1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71E-FFEE-4007-9E03-B6ED653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B7E7-B89C-417C-95FB-D4A8257B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48F-DA3D-4C54-960C-2EF46CA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DDC1-1044-4F29-A68C-A75A5295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228F-1902-490B-AC72-78C7564D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F66-B251-4B97-9F8C-D7DF7E3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CCC-24AB-41FA-AFA3-32DE7CAA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BD80-0FEC-4B2F-B312-AE9324A0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AC6B-CA10-4C4E-BDDC-A2381C1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209D-A2E5-40AC-8865-BA709E36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0525-7DEE-4EC5-904E-83CEAA88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AD41-000B-48BC-BC60-AE9B032F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A9D-B153-406B-9508-3D00B98D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EE3-22A5-4183-A5AA-83A83F57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2E7-DA65-403E-9A63-03938D75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8D5-7112-491D-9429-AD8D4CA6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DD8-92D0-40CA-A43B-5904DEA0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F9C-F7D6-4C97-948F-E411336E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5C5-A153-460C-8238-2FAEC0E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D059-763F-4C02-8D02-C78912067FF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CC57-D445-4020-92E9-9B1E41EEB24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ftcpublishing.com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ND THE CORRECT OR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bd04961_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492440" cy="2890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14600" y="228600"/>
            <a:ext cx="44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www.FTCPublishing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6477120"/>
          </a:xfrm>
          <a:custGeom>
            <a:avLst/>
            <a:gdLst>
              <a:gd name="textAreaLeft" fmla="*/ 419760 w 9144000"/>
              <a:gd name="textAreaRight" fmla="*/ 8724240 w 9144000"/>
              <a:gd name="textAreaTop" fmla="*/ 419760 h 6477120"/>
              <a:gd name="textAreaBottom" fmla="*/ 6057360 h 6477120"/>
            </a:gdLst>
            <a:ahLst/>
            <a:rect l="textAreaLeft" t="textAreaTop" r="textAreaRight" b="textAreaBottom"/>
            <a:pathLst>
              <a:path w="30493" h="21600">
                <a:moveTo>
                  <a:pt x="0" y="0"/>
                </a:moveTo>
                <a:lnTo>
                  <a:pt x="30493" y="0"/>
                </a:lnTo>
                <a:lnTo>
                  <a:pt x="30493" y="21600"/>
                </a:lnTo>
                <a:lnTo>
                  <a:pt x="0" y="21600"/>
                </a:lnTo>
                <a:close/>
              </a:path>
              <a:path fill="lightenLess" w="30493" h="21600">
                <a:moveTo>
                  <a:pt x="0" y="0"/>
                </a:moveTo>
                <a:lnTo>
                  <a:pt x="30493" y="0"/>
                </a:lnTo>
                <a:lnTo>
                  <a:pt x="29093" y="1400"/>
                </a:lnTo>
                <a:lnTo>
                  <a:pt x="1400" y="1400"/>
                </a:lnTo>
                <a:close/>
              </a:path>
              <a:path fill="darken" w="30493" h="21600">
                <a:moveTo>
                  <a:pt x="30493" y="0"/>
                </a:moveTo>
                <a:lnTo>
                  <a:pt x="30493" y="21600"/>
                </a:lnTo>
                <a:lnTo>
                  <a:pt x="29093" y="20200"/>
                </a:lnTo>
                <a:lnTo>
                  <a:pt x="29093" y="1400"/>
                </a:lnTo>
                <a:close/>
              </a:path>
              <a:path fill="darkenLess" w="30493" h="21600">
                <a:moveTo>
                  <a:pt x="3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3" y="20200"/>
                </a:lnTo>
                <a:close/>
              </a:path>
              <a:path fill="lighten" w="3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38880" y="281952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038480" y="281952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B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ck on  A   B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C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8001000" cy="528480"/>
          </a:xfrm>
          <a:prstGeom prst="rect">
            <a:avLst/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434340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49528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55627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7339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34340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9528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373392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434340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556272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55627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3352680"/>
            <a:ext cx="0" cy="3124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3352680"/>
            <a:ext cx="0" cy="312444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373392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4952880"/>
            <a:ext cx="2133720" cy="457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603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95280" y="2819520"/>
            <a:ext cx="3524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990720" y="27432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3733920" y="274320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lastslide"/>
          </p:cNvPr>
          <p:cNvSpPr/>
          <p:nvPr/>
        </p:nvSpPr>
        <p:spPr>
          <a:xfrm>
            <a:off x="6934320" y="2743200"/>
            <a:ext cx="990360" cy="838080"/>
          </a:xfrm>
          <a:custGeom>
            <a:avLst/>
            <a:gdLst>
              <a:gd name="textAreaLeft" fmla="*/ 54000 w 990360"/>
              <a:gd name="textAreaRight" fmla="*/ 936360 w 9903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23" h="21600">
                <a:moveTo>
                  <a:pt x="0" y="0"/>
                </a:moveTo>
                <a:lnTo>
                  <a:pt x="25523" y="0"/>
                </a:lnTo>
                <a:lnTo>
                  <a:pt x="25523" y="21600"/>
                </a:lnTo>
                <a:lnTo>
                  <a:pt x="0" y="21600"/>
                </a:lnTo>
                <a:close/>
              </a:path>
              <a:path fill="lightenLess" w="25523" h="21600">
                <a:moveTo>
                  <a:pt x="0" y="0"/>
                </a:moveTo>
                <a:lnTo>
                  <a:pt x="25523" y="0"/>
                </a:lnTo>
                <a:lnTo>
                  <a:pt x="24123" y="1400"/>
                </a:lnTo>
                <a:lnTo>
                  <a:pt x="1400" y="1400"/>
                </a:lnTo>
                <a:close/>
              </a:path>
              <a:path fill="darken" w="25523" h="21600">
                <a:moveTo>
                  <a:pt x="25523" y="0"/>
                </a:moveTo>
                <a:lnTo>
                  <a:pt x="25523" y="21600"/>
                </a:lnTo>
                <a:lnTo>
                  <a:pt x="24123" y="20200"/>
                </a:lnTo>
                <a:lnTo>
                  <a:pt x="24123" y="1400"/>
                </a:lnTo>
                <a:close/>
              </a:path>
              <a:path fill="darkenLess" w="25523" h="21600">
                <a:moveTo>
                  <a:pt x="25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3" y="20200"/>
                </a:lnTo>
                <a:close/>
              </a:path>
              <a:path fill="lighten" w="25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228600"/>
            <a:ext cx="3276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AT IS THE ORDER?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0880"/>
            <a:ext cx="38088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380880"/>
            <a:ext cx="38088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380880"/>
            <a:ext cx="38088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" y="2030400"/>
            <a:ext cx="75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hat are the stages in the Continuous Quality Improvement Cycl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1000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9320" y="609480"/>
            <a:ext cx="67816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orry wrong answe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4800600"/>
            <a:ext cx="27432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505320"/>
            <a:ext cx="350532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2360" y="3352680"/>
            <a:ext cx="2282400" cy="703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Try Aga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57200"/>
            <a:ext cx="9144000" cy="6400800"/>
          </a:xfrm>
          <a:custGeom>
            <a:avLst/>
            <a:gdLst>
              <a:gd name="textAreaLeft" fmla="*/ 414720 w 9144000"/>
              <a:gd name="textAreaRight" fmla="*/ 8729280 w 9144000"/>
              <a:gd name="textAreaTop" fmla="*/ 414720 h 6400800"/>
              <a:gd name="textAreaBottom" fmla="*/ 5986080 h 6400800"/>
            </a:gdLst>
            <a:ahLst/>
            <a:rect l="textAreaLeft" t="textAreaTop" r="textAreaRight" b="textAreaBottom"/>
            <a:pathLst>
              <a:path w="30857" h="21600">
                <a:moveTo>
                  <a:pt x="0" y="0"/>
                </a:moveTo>
                <a:lnTo>
                  <a:pt x="30857" y="0"/>
                </a:lnTo>
                <a:lnTo>
                  <a:pt x="30857" y="21600"/>
                </a:lnTo>
                <a:lnTo>
                  <a:pt x="0" y="21600"/>
                </a:lnTo>
                <a:close/>
              </a:path>
              <a:path fill="lightenLess" w="30857" h="21600">
                <a:moveTo>
                  <a:pt x="0" y="0"/>
                </a:moveTo>
                <a:lnTo>
                  <a:pt x="30857" y="0"/>
                </a:lnTo>
                <a:lnTo>
                  <a:pt x="29457" y="1400"/>
                </a:lnTo>
                <a:lnTo>
                  <a:pt x="1400" y="1400"/>
                </a:lnTo>
                <a:close/>
              </a:path>
              <a:path fill="darken" w="30857" h="21600">
                <a:moveTo>
                  <a:pt x="30857" y="0"/>
                </a:moveTo>
                <a:lnTo>
                  <a:pt x="30857" y="21600"/>
                </a:lnTo>
                <a:lnTo>
                  <a:pt x="29457" y="20200"/>
                </a:lnTo>
                <a:lnTo>
                  <a:pt x="29457" y="1400"/>
                </a:lnTo>
                <a:close/>
              </a:path>
              <a:path fill="darkenLess" w="30857" h="21600">
                <a:moveTo>
                  <a:pt x="30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7" y="20200"/>
                </a:lnTo>
                <a:close/>
              </a:path>
              <a:path fill="lighten" w="30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19320" y="0"/>
            <a:ext cx="4876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00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gratula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ff0033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4191120"/>
            <a:ext cx="2209680" cy="144756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2286000"/>
            <a:ext cx="8229600" cy="3657600"/>
          </a:xfrm>
          <a:prstGeom prst="irregularSeal2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51400" y="3681360"/>
            <a:ext cx="29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CORRECT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22:35:32Z</dcterms:created>
  <dc:creator>jonesd</dc:creator>
  <dc:description/>
  <dc:language>en-US</dc:language>
  <cp:lastModifiedBy>jonesd</cp:lastModifiedBy>
  <dcterms:modified xsi:type="dcterms:W3CDTF">2002-06-23T21:01:06Z</dcterms:modified>
  <cp:revision>10</cp:revision>
  <dc:subject/>
  <dc:title>Select  A  B or C</dc:title>
</cp:coreProperties>
</file>